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0.png" ContentType="image/png"/>
  <Override PartName="/ppt/media/image8.png" ContentType="image/png"/>
  <Override PartName="/ppt/media/image11.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7.jpeg" ContentType="image/jpeg"/>
  <Override PartName="/ppt/media/image18.png" ContentType="image/png"/>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AC04-970B-4C1C-A0E0-FE45F2FBCE05}"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8E4D-678F-4151-902F-D7666DCF86E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A701-ED6A-4245-8149-253147887D8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EDCB-D02D-4AAC-BA2D-99444B8ED3F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D32C-3323-490E-BB71-8A61A4204FDC}"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32B6-C57C-4F1C-9210-2F60D2052DA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EF04-6AA6-4F7E-B672-C3948D81BD8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A614-B091-42C8-B5EB-9571FF5FCFF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CBD2-BFBD-4BF7-A859-7FFBECD6FD0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FA70-9C75-460E-B0FF-754CB2B5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636EF-887D-4286-8864-106B0E80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B79CB-2CC2-4218-B400-B799A0975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42AF5-5518-4D5B-9263-807A39FF0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D6A39-5910-4BF1-822C-06AAC07CCC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11F2F-82D4-4D88-AC48-FFD5CA8FC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EE965-C6B2-49C5-8184-35D254E32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ABE8-E865-4310-A1E9-471783A82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3968A-193E-4F26-84D1-2582CB75C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68E76-79F8-4D10-BFA5-A4A8E0E07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77C67-E605-423F-ABF2-7623A9804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CA77-D73B-493C-8179-496208C93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12CA1-995A-48A4-810D-835CDB99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48EAA-0292-4DC7-8B44-8036609DA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7962-1B67-4EEB-BB89-F9AFD9DEB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18161-7FA6-43A9-81CF-06187538C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BF651-EDCB-4DE5-B755-7ACEF30AB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1BDA9-E74E-4D11-B0A7-829646EB92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D5C80E-E81B-43C4-8066-D9047C247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FAE6E-ACCA-4BDA-BD2B-E359FDCD9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EA1CD4-8D7E-441E-ACC5-C0C9B971B8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C47C8-6E72-4A61-828A-FFE736783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54DF6-75A6-4943-84BB-67169B04C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DD659D-3AD4-4319-866B-D19A90026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51F2F-C193-4EFD-A091-AEE00AF02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6F4B6B-8351-4317-AA77-146E034E7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11504-5604-4DBB-BF4B-40FE42DE5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8B1B5-23B0-4F3A-AEF2-87FEC28F7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C02A6C-570D-4A7D-9B56-68ECF431A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1E1A09-5E37-460B-ABE8-EA0101156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2CDEA-A65A-4479-9AED-94E7B4E1E1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C5E2F-E5B3-4B31-8757-AB24CE4A0A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37850-D7A7-477E-98CC-5E60370AA2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347D8-6335-4048-874E-899077CF7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319B1-F21E-4505-B1C2-880F42057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4DA3E-E04F-495B-B3A4-9C49218C05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AEB47E-99C0-4A59-AE06-7802D84F15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72D8F-BDA9-43EB-8453-B3D91F33A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CD6834-C360-46D3-81FF-17F2BF0286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0D0EE-1610-447A-98F8-2A3E72631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9DB99-E1E3-4364-98E8-2BEF9D924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5B2D05-E000-46FD-83AB-7E908F66EC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66794D-2E07-46C4-8F7D-34FBCE3A2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1C3209-3C5A-4EB4-82F4-BB0237354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DB0F7-C484-4FDE-88AC-BE9138D16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C23B28-8852-49AB-AE10-F9678A221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7ED7C1-A187-4788-B630-F52D8C9DD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5F0A2-B4F1-4232-83FF-D386FC938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9300D-7B46-4F2B-AD88-88D920ADF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61EEE-FACA-4AAF-9C9B-F6E3FE595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73EDA-2F73-496F-ADD3-D9AE92EE5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29CCE-1310-42D6-9FE7-B14EAC85A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2A310-E527-49C5-8F15-E6E64C1ED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9867B-A20D-4461-BADC-07187A88D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B4797-E2CE-4629-93BB-0E76F8B7C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F7B5-C374-42F3-8286-9D1156880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A8F84B-2365-4D26-A337-1AC0DA0EC9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EFB557-E6E0-47AD-B81F-ED644C4ECF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274CD9-5F42-43D1-94ED-9AAAFD720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11748-5D08-4BCA-AA51-47DA4B271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8C81A-0F92-413E-A331-B296B0C89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03FA97-1772-41F5-9B10-BD66A0340A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5A99A-1AE3-4E53-9584-25F475324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97A74F-379B-4D33-A8DE-032DD5C90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28C41-B0E5-4AE9-A888-2D7EC205A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8BFE6B-6CCB-470D-B276-117CA4BA3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48512-927B-4D23-B733-A1E9EE2DE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BA1CD-0E37-44CD-9CD4-AD27507583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58B965-799B-4328-9886-6795052ABC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29F1F-8A6F-47B2-93F5-D65D284329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DE224C-CFA2-4456-B27E-315E880F97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31DB11-C8BF-4FF3-B25B-A05D01F66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BFE85-D6BF-4D63-84FB-0574B8A38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F4759-AF78-4DE5-A5CC-7B01AE3F2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5A770-FF27-4CE7-9889-41A59EEDC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605B92-B34C-4EA9-A7EB-F105D85091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FA8B6-877A-4E06-9F79-C9E7788F5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8BD5-32AE-4370-A55C-83FDC7403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A102A-92C4-4609-BE99-C86280E39A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5C0A0-1B9E-417A-B34D-003C8ED1B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CF931-6444-4D47-886C-4EAA588E4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BCC47-2CE5-4AFD-8AB4-679DC2AF35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5DD2B3-659F-4289-A04A-39C1D6A78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83D1-DED0-4CD9-BD61-2ECEF0B9C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DB01-698C-4264-9777-7690E2CAB2F0}"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F239-51A3-40C5-A346-24D0B10ADF5E}" type="slidenum">
              <a:rPr b="0" lang="en-CA"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1918-75A3-49B6-AFF2-E6AB619B7155}"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F2E9-F918-4DD1-84B5-7FC23007CDCB}" type="slidenum">
              <a:rPr b="0" lang="en-CA"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F02C-3373-4EF3-A8AC-ADF912E6E1E4}" type="slidenum">
              <a:rPr b="0" lang="en-CA"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E648-1E8B-4D41-AD78-3C560E04E572}" type="slidenum">
              <a:rPr b="0" lang="en-CA"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D848-506F-4DBE-9E46-3FD863255812}" type="slidenum">
              <a:rPr b="0" lang="en-CA"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listverse.files.wordpress.com/2007/09/friedrich-herlin-reading-saint-peter-1466.jpg" TargetMode="External"/><Relationship Id="rId3" Type="http://schemas.openxmlformats.org/officeDocument/2006/relationships/image" Target="../media/image15.jpeg"/><Relationship Id="rId4" Type="http://schemas.openxmlformats.org/officeDocument/2006/relationships/hyperlink" Target="http://listverse.files.wordpress.com/2007/09/image-5.jpg" TargetMode="External"/><Relationship Id="rId5" Type="http://schemas.openxmlformats.org/officeDocument/2006/relationships/image" Target="../media/image16.jpeg"/><Relationship Id="rId6" Type="http://schemas.openxmlformats.org/officeDocument/2006/relationships/hyperlink" Target="http://listverse.files.wordpress.com/2007/09/polonaisemah.jpg" TargetMode="External"/><Relationship Id="rId7" Type="http://schemas.openxmlformats.org/officeDocument/2006/relationships/image" Target="../media/image17.jpeg"/><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536400" y="652320"/>
            <a:ext cx="8326440" cy="1597320"/>
          </a:xfrm>
          <a:prstGeom prst="rect">
            <a:avLst/>
          </a:prstGeom>
          <a:ln w="0">
            <a:noFill/>
          </a:ln>
        </p:spPr>
      </p:pic>
      <p:pic>
        <p:nvPicPr>
          <p:cNvPr id="309" name="Subtitle 2" descr=""/>
          <p:cNvPicPr/>
          <p:nvPr/>
        </p:nvPicPr>
        <p:blipFill>
          <a:blip r:embed="rId2"/>
          <a:stretch/>
        </p:blipFill>
        <p:spPr>
          <a:xfrm>
            <a:off x="536400" y="2170080"/>
            <a:ext cx="8174160" cy="1841400"/>
          </a:xfrm>
          <a:prstGeom prst="rect">
            <a:avLst/>
          </a:prstGeom>
          <a:ln w="0">
            <a:noFill/>
          </a:ln>
        </p:spPr>
      </p:pic>
      <p:pic>
        <p:nvPicPr>
          <p:cNvPr id="310" name="Picture 2" descr="http://www.antique-prints.de/shop/Media/Shop/3776.jpg"/>
          <p:cNvPicPr/>
          <p:nvPr/>
        </p:nvPicPr>
        <p:blipFill>
          <a:blip r:embed="rId3"/>
          <a:stretch/>
        </p:blipFill>
        <p:spPr>
          <a:xfrm>
            <a:off x="500040" y="2714760"/>
            <a:ext cx="2924280" cy="368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450720" y="262080"/>
            <a:ext cx="8242560" cy="1407960"/>
          </a:xfrm>
          <a:prstGeom prst="rect">
            <a:avLst/>
          </a:prstGeom>
          <a:ln w="0">
            <a:noFill/>
          </a:ln>
        </p:spPr>
      </p:pic>
      <p:sp>
        <p:nvSpPr>
          <p:cNvPr id="312" name=""/>
          <p:cNvSpPr txBox="1"/>
          <p:nvPr/>
        </p:nvSpPr>
        <p:spPr>
          <a:xfrm>
            <a:off x="500040" y="1643040"/>
            <a:ext cx="8229600" cy="4572000"/>
          </a:xfrm>
          <a:prstGeom prst="rect">
            <a:avLst/>
          </a:prstGeom>
          <a:solidFill>
            <a:srgbClr val="ff388c"/>
          </a:solidFill>
          <a:ln w="25560">
            <a:solidFill>
              <a:srgbClr val="bc2665"/>
            </a:solidFill>
            <a:miter/>
          </a:ln>
        </p:spPr>
        <p:txBody>
          <a:bodyPr anchor="t">
            <a:normAutofit/>
          </a:bodyPr>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39 -Edward was born  June 17</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54 -Edward was made Duke of Gascony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59 – supported Simon Montfort but later changed side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65 – Defeated Montfort at Evesham restoring royal power</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71-1272 – Eight Crusade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77- Edward conquered Welsh Principalit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90 – Edward chose John De Ballol as his successor and claimed rule of Scotland</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297 – Attacked France but pulled back because of rebellion in Scotland</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303 – Signed treaty stating his retirement involving the control of Gascon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Century Gothic"/>
              </a:rPr>
              <a:t> </a:t>
            </a:r>
            <a:r>
              <a:rPr b="0" lang="en-CA" sz="2100" spc="-1" strike="noStrike">
                <a:solidFill>
                  <a:srgbClr val="ffffff"/>
                </a:solidFill>
                <a:latin typeface="Century Gothic"/>
              </a:rPr>
              <a:t>1307 – Edward died and only half of Scotland was conquered</a:t>
            </a:r>
            <a:endParaRPr b="0" lang="en-US" sz="2100" spc="-1" strike="noStrike">
              <a:solidFill>
                <a:srgbClr val="ffffff"/>
              </a:solidFill>
              <a:latin typeface="Century Gothic"/>
            </a:endParaRPr>
          </a:p>
          <a:p>
            <a:pPr marL="4478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
        <p:nvSpPr>
          <p:cNvPr id="313" name="Straight Connector 4"/>
          <p:cNvSpPr/>
          <p:nvPr/>
        </p:nvSpPr>
        <p:spPr>
          <a:xfrm>
            <a:off x="857160" y="1714680"/>
            <a:ext cx="0" cy="435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Right Arrow 7"/>
          <p:cNvSpPr/>
          <p:nvPr/>
        </p:nvSpPr>
        <p:spPr>
          <a:xfrm>
            <a:off x="928800" y="178596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ight Arrow 8"/>
          <p:cNvSpPr/>
          <p:nvPr/>
        </p:nvSpPr>
        <p:spPr>
          <a:xfrm>
            <a:off x="928800" y="207180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ight Arrow 9"/>
          <p:cNvSpPr/>
          <p:nvPr/>
        </p:nvSpPr>
        <p:spPr>
          <a:xfrm>
            <a:off x="928800" y="235728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ight Arrow 10"/>
          <p:cNvSpPr/>
          <p:nvPr/>
        </p:nvSpPr>
        <p:spPr>
          <a:xfrm>
            <a:off x="928800" y="271476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ight Arrow 11"/>
          <p:cNvSpPr/>
          <p:nvPr/>
        </p:nvSpPr>
        <p:spPr>
          <a:xfrm>
            <a:off x="928800" y="328608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Right Arrow 12"/>
          <p:cNvSpPr/>
          <p:nvPr/>
        </p:nvSpPr>
        <p:spPr>
          <a:xfrm>
            <a:off x="928800" y="364320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Right Arrow 13"/>
          <p:cNvSpPr/>
          <p:nvPr/>
        </p:nvSpPr>
        <p:spPr>
          <a:xfrm>
            <a:off x="928800" y="392904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Right Arrow 14"/>
          <p:cNvSpPr/>
          <p:nvPr/>
        </p:nvSpPr>
        <p:spPr>
          <a:xfrm>
            <a:off x="928800" y="450072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Right Arrow 15"/>
          <p:cNvSpPr/>
          <p:nvPr/>
        </p:nvSpPr>
        <p:spPr>
          <a:xfrm>
            <a:off x="928800" y="5072040"/>
            <a:ext cx="142920" cy="71640"/>
          </a:xfrm>
          <a:prstGeom prst="rightArrow">
            <a:avLst>
              <a:gd name="adj1" fmla="val 50000"/>
              <a:gd name="adj2" fmla="val 47778"/>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ight Arrow 16"/>
          <p:cNvSpPr/>
          <p:nvPr/>
        </p:nvSpPr>
        <p:spPr>
          <a:xfrm>
            <a:off x="928800" y="5643720"/>
            <a:ext cx="142920" cy="71280"/>
          </a:xfrm>
          <a:prstGeom prst="rightArrow">
            <a:avLst>
              <a:gd name="adj1" fmla="val 50000"/>
              <a:gd name="adj2" fmla="val 48019"/>
            </a:avLst>
          </a:prstGeom>
          <a:solidFill>
            <a:srgbClr val="ff388c"/>
          </a:solidFill>
          <a:ln w="25560">
            <a:solidFill>
              <a:srgbClr val="bc2665"/>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4" name="Picture 2" descr="http://www.castlewales.com/edward01.jpg"/>
          <p:cNvPicPr/>
          <p:nvPr/>
        </p:nvPicPr>
        <p:blipFill>
          <a:blip r:embed="rId2"/>
          <a:stretch/>
        </p:blipFill>
        <p:spPr>
          <a:xfrm>
            <a:off x="6286680" y="142920"/>
            <a:ext cx="1214280" cy="13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450720" y="262080"/>
            <a:ext cx="8242560" cy="1407960"/>
          </a:xfrm>
          <a:prstGeom prst="rect">
            <a:avLst/>
          </a:prstGeom>
          <a:ln w="0">
            <a:noFill/>
          </a:ln>
        </p:spPr>
      </p:pic>
      <p:pic>
        <p:nvPicPr>
          <p:cNvPr id="326" name="Picture 4" descr="http://www.lonelyplanet.com/maps/europe/england/map_of_england.jpg"/>
          <p:cNvPicPr/>
          <p:nvPr/>
        </p:nvPicPr>
        <p:blipFill>
          <a:blip r:embed="rId2"/>
          <a:stretch/>
        </p:blipFill>
        <p:spPr>
          <a:xfrm>
            <a:off x="571680" y="3071880"/>
            <a:ext cx="4597200" cy="3452760"/>
          </a:xfrm>
          <a:prstGeom prst="rect">
            <a:avLst/>
          </a:prstGeom>
          <a:ln w="0">
            <a:noFill/>
          </a:ln>
        </p:spPr>
      </p:pic>
      <p:sp>
        <p:nvSpPr>
          <p:cNvPr id="327" name="TextBox 5"/>
          <p:cNvSpPr/>
          <p:nvPr/>
        </p:nvSpPr>
        <p:spPr>
          <a:xfrm>
            <a:off x="142920" y="157176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entury Gothic"/>
              </a:rPr>
              <a:t>His Reign began in England after the death of his father. He then  conquered Wales and parts of Scotland.</a:t>
            </a:r>
            <a:endParaRPr b="0" lang="en-US" sz="1800" spc="-1" strike="noStrike">
              <a:solidFill>
                <a:srgbClr val="ffffff"/>
              </a:solidFill>
              <a:latin typeface="Arial"/>
            </a:endParaRPr>
          </a:p>
        </p:txBody>
      </p:sp>
      <p:pic>
        <p:nvPicPr>
          <p:cNvPr id="328" name="Picture 6" descr="http://freepages.genealogy.rootsweb.ancestry.com/~pattillo/Gascony.bmp"/>
          <p:cNvPicPr/>
          <p:nvPr/>
        </p:nvPicPr>
        <p:blipFill>
          <a:blip r:embed="rId3"/>
          <a:stretch/>
        </p:blipFill>
        <p:spPr>
          <a:xfrm>
            <a:off x="5500800" y="357120"/>
            <a:ext cx="3047760" cy="3229200"/>
          </a:xfrm>
          <a:prstGeom prst="rect">
            <a:avLst/>
          </a:prstGeom>
          <a:ln w="0">
            <a:noFill/>
          </a:ln>
        </p:spPr>
      </p:pic>
      <p:sp>
        <p:nvSpPr>
          <p:cNvPr id="329" name="TextBox 5"/>
          <p:cNvSpPr/>
          <p:nvPr/>
        </p:nvSpPr>
        <p:spPr>
          <a:xfrm>
            <a:off x="5715000" y="4000680"/>
            <a:ext cx="314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dward also became Duke of Gascon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5" descr="http://www.englishmonarchs.co.uk/images/various/edward_1.jpg"/>
          <p:cNvPicPr/>
          <p:nvPr/>
        </p:nvPicPr>
        <p:blipFill>
          <a:blip r:embed="rId1"/>
          <a:stretch/>
        </p:blipFill>
        <p:spPr>
          <a:xfrm rot="1042800">
            <a:off x="6586560" y="4949640"/>
            <a:ext cx="1388880" cy="1739880"/>
          </a:xfrm>
          <a:prstGeom prst="rect">
            <a:avLst/>
          </a:prstGeom>
          <a:ln w="0">
            <a:noFill/>
          </a:ln>
        </p:spPr>
      </p:pic>
      <p:pic>
        <p:nvPicPr>
          <p:cNvPr id="331" name="Title 1" descr=""/>
          <p:cNvPicPr/>
          <p:nvPr/>
        </p:nvPicPr>
        <p:blipFill>
          <a:blip r:embed="rId2"/>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In the thirteenth century when Edward the first was in reign the period was known as the `Period of Definition`</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During the 13</a:t>
            </a:r>
            <a:r>
              <a:rPr b="0" lang="en-CA" sz="2300" spc="-1" strike="noStrike" baseline="30000">
                <a:solidFill>
                  <a:srgbClr val="ffffff"/>
                </a:solidFill>
                <a:latin typeface="Century Gothic"/>
              </a:rPr>
              <a:t>th</a:t>
            </a:r>
            <a:r>
              <a:rPr b="0" lang="en-CA" sz="2300" spc="-1" strike="noStrike">
                <a:solidFill>
                  <a:srgbClr val="ffffff"/>
                </a:solidFill>
                <a:latin typeface="Century Gothic"/>
              </a:rPr>
              <a:t> century the Pope became a major role in the church. But through this there was conflict between the Pope and the Kings or royalty.</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There was population growth as there is in ever era. This also meaning that there was more farmland to be used, so more products and even more trade</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ffffff"/>
                </a:solidFill>
                <a:latin typeface="Century Gothic"/>
              </a:rPr>
              <a:t>But there was also a major change in the government. Government Bureaucracy became a main component.</a:t>
            </a:r>
            <a:endParaRPr b="0" lang="en-US" sz="2300" spc="-1" strike="noStrike">
              <a:solidFill>
                <a:srgbClr val="ffffff"/>
              </a:solidFill>
              <a:latin typeface="Century Gothic"/>
            </a:endParaRPr>
          </a:p>
          <a:p>
            <a:pPr marL="447840" indent="-3826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dward the first was the son of Henry the third, after the death of his father in 1272 he was crowned king. He then conquered Wales and parts of Scotland. He went through struggles with rebellion and the want and need for money.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dward also had an impact on legal matters, such as enforcing the power of kings and encouraging the justice within the legal syste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95120" y="262080"/>
            <a:ext cx="8498160" cy="1407960"/>
          </a:xfrm>
          <a:prstGeom prst="rect">
            <a:avLst/>
          </a:prstGeom>
          <a:ln w="0">
            <a:noFill/>
          </a:ln>
        </p:spPr>
      </p:pic>
      <p:sp>
        <p:nvSpPr>
          <p:cNvPr id="336" name=""/>
          <p:cNvSpPr txBox="1"/>
          <p:nvPr/>
        </p:nvSpPr>
        <p:spPr>
          <a:xfrm>
            <a:off x="457200" y="1882800"/>
            <a:ext cx="822960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 </a:t>
            </a:r>
            <a:r>
              <a:rPr b="0" lang="en-CA" sz="3000" spc="-1" strike="noStrike">
                <a:solidFill>
                  <a:srgbClr val="ffffff"/>
                </a:solidFill>
                <a:latin typeface="Century Gothic"/>
              </a:rPr>
              <a:t>Edward was also Duke of Gascony. He married his second cousin to settle rights involving Gascony.</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He was also involved in the eighth Crusade, which was only partly successful because they pulled back and gained trade with Tunis. But Edward was not greatly involved in the eighth Crusade.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37" name="Picture 2" descr="http://www.castlewales.com/edward01.jpg"/>
          <p:cNvPicPr/>
          <p:nvPr/>
        </p:nvPicPr>
        <p:blipFill>
          <a:blip r:embed="rId2"/>
          <a:stretch/>
        </p:blipFill>
        <p:spPr>
          <a:xfrm>
            <a:off x="6215040" y="142920"/>
            <a:ext cx="1643040" cy="17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95120" y="262080"/>
            <a:ext cx="8498160" cy="1407960"/>
          </a:xfrm>
          <a:prstGeom prst="rect">
            <a:avLst/>
          </a:prstGeom>
          <a:ln w="0">
            <a:noFill/>
          </a:ln>
        </p:spPr>
      </p:pic>
      <p:sp>
        <p:nvSpPr>
          <p:cNvPr id="33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Eyeglasses were though of in 1268 by Roger bacon, although magnifying glasses were already in use in Europe and China his was the first idea to enhance personal visio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The Mechanical Clocks and the Spinning Wheel were invented in the 13</a:t>
            </a:r>
            <a:r>
              <a:rPr b="0" lang="en-CA" sz="3000" spc="-1" strike="noStrike" baseline="30000">
                <a:solidFill>
                  <a:srgbClr val="ffffff"/>
                </a:solidFill>
                <a:latin typeface="Century Gothic"/>
              </a:rPr>
              <a:t>th</a:t>
            </a:r>
            <a:r>
              <a:rPr b="0" lang="en-CA" sz="3000" spc="-1" strike="noStrike">
                <a:solidFill>
                  <a:srgbClr val="ffffff"/>
                </a:solidFill>
                <a:latin typeface="Century Gothic"/>
              </a:rPr>
              <a:t> century as well.</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40" name="Picture 2" descr="Friedrich Herlin, Reading Saint Peter (1466)">
            <a:hlinkClick r:id="rId2"/>
          </p:cNvPr>
          <p:cNvPicPr/>
          <p:nvPr/>
        </p:nvPicPr>
        <p:blipFill>
          <a:blip r:embed="rId3"/>
          <a:stretch/>
        </p:blipFill>
        <p:spPr>
          <a:xfrm rot="20330400">
            <a:off x="3844800" y="-92160"/>
            <a:ext cx="1409760" cy="1778040"/>
          </a:xfrm>
          <a:prstGeom prst="rect">
            <a:avLst/>
          </a:prstGeom>
          <a:ln w="0">
            <a:noFill/>
          </a:ln>
        </p:spPr>
      </p:pic>
      <p:pic>
        <p:nvPicPr>
          <p:cNvPr id="341" name="Picture 4" descr="Image-5">
            <a:hlinkClick r:id="rId4"/>
          </p:cNvPr>
          <p:cNvPicPr/>
          <p:nvPr/>
        </p:nvPicPr>
        <p:blipFill>
          <a:blip r:embed="rId5"/>
          <a:stretch/>
        </p:blipFill>
        <p:spPr>
          <a:xfrm rot="1329600">
            <a:off x="6862680" y="5420880"/>
            <a:ext cx="1371600" cy="1432080"/>
          </a:xfrm>
          <a:prstGeom prst="rect">
            <a:avLst/>
          </a:prstGeom>
          <a:ln w="0">
            <a:noFill/>
          </a:ln>
        </p:spPr>
      </p:pic>
      <p:pic>
        <p:nvPicPr>
          <p:cNvPr id="342" name="Picture 6" descr="Polonaisemah">
            <a:hlinkClick r:id="rId6"/>
          </p:cNvPr>
          <p:cNvPicPr/>
          <p:nvPr/>
        </p:nvPicPr>
        <p:blipFill>
          <a:blip r:embed="rId7"/>
          <a:stretch/>
        </p:blipFill>
        <p:spPr>
          <a:xfrm rot="1242600">
            <a:off x="7429320" y="285480"/>
            <a:ext cx="1280880" cy="14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images.google.ca/imgres?imgurl=http://www.antique-prints.de/shop/Media/Shop/3776.jpg&amp;imgrefurl=http://www.antique-prints.de/shop/catalog.php%3Fcat%3DKAT27%26product%3DP004530&amp;usg=__qFvXdOG1cG-2fHWQxMbxTC3t9Q0=&amp;h=387&amp;w=307&amp;sz=20&amp;hl=en&amp;start=5&amp;tbnid=_VMjbKbWcq8LRM:&amp;tbnh=123&amp;tbnw=98&amp;prev=/images%3Fq%3Dedward%2Bthe%2Bfirst%2Bof%2Bengland%26gbv%3D2%26hl%3Den%26safe%3Dactive</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castlewales.com/edward.html</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answers.com/topic/middle-ages </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listverse.com/2007/09/22/top-10-inventions-of-the-middle-ages/</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crusades-history.com/Eighth-Crusade.aspx</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ffffff"/>
                </a:solidFill>
                <a:latin typeface="Century Gothic"/>
              </a:rPr>
              <a:t>http://www.englishmonarchs.co.uk/images/various/edward_1.jpg</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04:47:51Z</dcterms:created>
  <dc:creator>Shandra</dc:creator>
  <dc:description/>
  <dc:language>en-US</dc:language>
  <cp:lastModifiedBy>Shandra</cp:lastModifiedBy>
  <dcterms:modified xsi:type="dcterms:W3CDTF">2010-01-06T06:18:42Z</dcterms:modified>
  <cp:revision>42</cp:revision>
  <dc:subject/>
  <dc:title>Edward The First</dc:title>
</cp:coreProperties>
</file>